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5D63-9B0F-43BC-B1BE-B6F1F633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2F0C-CF61-4833-A948-C9DD174F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3E42-CF39-4B6D-9CA2-7BD86A8F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156C-C141-4798-9147-6FBEBED9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96B3-8F52-439A-B6BB-F4709E06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2654-48D8-44C8-9210-970AF5EF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7E50-9154-4E59-94B7-D293FA6D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1844-2A2B-464B-BDCF-1A19043F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F42F-1ACC-4C23-B7E6-9462F638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21B5-42C2-4AC3-8547-BDC9F127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3AB6-9F21-4151-897D-D3BF146C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49DB-119B-41EF-9E31-75049E3A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0660-4900-4B6C-8161-C8625328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9B1-F1BA-4729-88E6-51689BF5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62DB-A36B-48CC-A208-40623842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88A1-C339-4480-BFE5-42C78A93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BC26-C14F-4FBD-9EAB-3359871F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5614-EA75-410F-B85F-3623F3BD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6B3E-7F75-4B7C-8655-022E077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EF7F-634A-4156-B31C-9A865F63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209D-1AE4-4AD6-B20D-1E2880F0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2D8A-27FB-4325-99F0-200F5A2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6D4A-5F0F-46DA-A29F-91A05F1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F286-2DD7-4DBD-AD58-5FD72FA0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50DC-1CC7-4308-B296-62581A4027FC}" type="slidenum">
              <a:rPr b="0" lang="en-US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956-3E48-4DA6-B568-ED7A498EFC25}" type="slidenum">
              <a:rPr b="0" lang="en-US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6197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cc"/>
                </a:solidFill>
                <a:latin typeface="Arial"/>
              </a:rPr>
              <a:t>Me llamo ____________        Clase 7 IL</a:t>
            </a:r>
            <a:br>
              <a:rPr sz="3200"/>
            </a:br>
            <a:r>
              <a:rPr b="0" lang="en-US" sz="3200" spc="-1" strike="noStrike">
                <a:solidFill>
                  <a:srgbClr val="6699cc"/>
                </a:solidFill>
                <a:latin typeface="Arial"/>
              </a:rPr>
              <a:t>La fecha es el 14 de febrero del 2013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LIZ DIA DEL AMOR Y LA AMISTAD!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Propósito # 57:</a:t>
            </a:r>
            <a:r>
              <a:rPr b="0" lang="es-ES_tradnl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practicamos los verbos Saber y Conocer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Actividad Inicial:</a:t>
            </a:r>
            <a:r>
              <a:rPr b="0" lang="es-ES_tradnl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con </a:t>
            </a:r>
            <a:r>
              <a:rPr b="1" lang="es-ES_tradnl" sz="2400" spc="-1" strike="noStrike">
                <a:solidFill>
                  <a:srgbClr val="00cc00"/>
                </a:solidFill>
                <a:latin typeface="Arial"/>
              </a:rPr>
              <a:t>Sab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Conoc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rma _________ mucho del arte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 a Norma, ella es mi amiga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el arte de Picasso y queremos ir a un museo a ver sus pinturas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_________ tú como ir al museo de arte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no____ como ir, pero ¿__________ tú a Belinda y Ernesto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los si  __________ como ir al museo al museo de arte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16" name="Picture 11" descr="C:\Users\Faculty\AppData\Local\Microsoft\Windows\Temporary Internet Files\Content.IE5\EUZ7C3HW\MC900436240[1].png"/>
          <p:cNvPicPr/>
          <p:nvPr/>
        </p:nvPicPr>
        <p:blipFill>
          <a:blip r:embed="rId1"/>
          <a:stretch/>
        </p:blipFill>
        <p:spPr>
          <a:xfrm>
            <a:off x="127080" y="447840"/>
            <a:ext cx="13208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cc"/>
                </a:solidFill>
                <a:latin typeface="Arial"/>
              </a:rPr>
              <a:t>Ejercicios: 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142640"/>
            <a:ext cx="7010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cc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1c1c34"/>
                </a:solidFill>
                <a:uFillTx/>
                <a:latin typeface="Arial"/>
              </a:rPr>
              <a:t>Ejercicio 6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p.95 (1-6)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1c1c34"/>
                </a:solidFill>
                <a:uFillTx/>
                <a:latin typeface="Arial"/>
              </a:rPr>
              <a:t>Ejercicio 7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p. 95 (1-6)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cc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ompleta p. 42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Completa p. 43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tudy for Quiz 5 on SABER y CONOCER on THURSDAY, FEB. 28!!!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371600" y="34290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cc"/>
                </a:solidFill>
                <a:latin typeface="Arial"/>
              </a:rPr>
              <a:t>Tarea # 57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18:01Z</dcterms:created>
  <dc:creator>Helen Zumaeta</dc:creator>
  <dc:description/>
  <dc:language>en-US</dc:language>
  <cp:lastModifiedBy>Helen Zumaeta</cp:lastModifiedBy>
  <dcterms:modified xsi:type="dcterms:W3CDTF">2013-02-14T16:30:19Z</dcterms:modified>
  <cp:revision>6</cp:revision>
  <dc:subject/>
  <dc:title>Me llamo ____________        Clase 7 IM La fecha es el 17 de noviembre del 2011</dc:title>
</cp:coreProperties>
</file>